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wmf" ContentType="image/x-wmf"/>
  <Override PartName="/ppt/media/image13.png" ContentType="image/png"/>
  <Override PartName="/ppt/media/image12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25.png" ContentType="image/png"/>
  <Override PartName="/ppt/media/image32.jpeg" ContentType="image/jpeg"/>
  <Override PartName="/ppt/media/image33.png" ContentType="image/png"/>
  <Override PartName="/ppt/media/image16.wmf" ContentType="image/x-wmf"/>
  <Override PartName="/ppt/media/image9.jpeg" ContentType="image/jpeg"/>
  <Override PartName="/ppt/media/image11.png" ContentType="image/png"/>
  <Override PartName="/ppt/media/image34.wmf" ContentType="image/x-wmf"/>
  <Override PartName="/ppt/media/image35.wmf" ContentType="image/x-wmf"/>
  <Override PartName="/ppt/media/image36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3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4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C067-2A8B-47B8-9FC6-9BB9BC8D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E125D-79BD-471F-8CBE-C82775C27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B21-9074-48EF-BF80-6AAB311DB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E46C-1A12-4CEA-AD0D-770250411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BC5E-0A81-4888-B671-C51E6AF95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51B7-F3F1-4B80-881F-F818386E8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764A-B184-4EC7-A89D-59842391B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9325-157B-4088-A02F-1A6BF7A28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AD54-4ED3-44DF-9CB9-085B90C78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CEEB-74E3-43E8-8466-92F23F6D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DADE-D76A-4DBF-8891-8A2F23AF0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7ABE-94B0-4780-B6C4-99653E36F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F6C5-9AA1-4771-A3E3-D3429E7A7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EC6D-DDC5-4165-9EAC-7BBD97227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9C54-2A8D-4AB8-9D21-EC8DC253C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F5CA-09A4-44C1-B649-185BD5C8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CF5E-AA19-4424-8338-49AA6ECF3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CE50C-7E17-4F73-804F-A45552942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0818-7453-449B-9133-2BA5CAAAB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4970-EA34-42C4-9D34-750757246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42FD-83CD-482D-BF68-22BB709CC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AD6B-ADCF-476F-9ACD-21D55A085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F64D-F4C8-4329-A849-D32AC134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FF6E-52E3-467E-93A5-BFEA91FF6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9C1E-E718-422E-91AB-38DBCEBA5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52B3-1432-4F8C-B1F9-AF43E841C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F2C9-CD7D-4D41-A716-25BECA1B6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82DE-5105-488F-862B-DD77092EF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5906-E37D-46A9-9D6B-37394F6FE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6B6F-EF8F-4CED-807A-BF9C059C6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CE0C-1024-4DAB-A878-AEF1C88C3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0CE3-8EDB-48A2-ADF0-7DFE37DD5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632F-B3E8-489B-8E94-10D73DFFB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59F4-1171-4D20-A3D2-333C8EA52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9DB7-A4B6-4F6B-B799-8FFA2E4F2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EEA8-3838-40CC-B689-FD62CC4CC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51C5-DC16-4C77-BCD3-3DB767F91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F570-32DB-4973-B9B0-BB9FDE535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C418-974C-44A4-9703-5A08B7350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24CB5-3813-47DF-9B51-39DAA71A4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66FF-B9C5-4D2C-A36A-03B1B13BE62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AE8-6A18-483B-8ED4-4B8DBC625C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3322-1840-4472-926C-FBFDF0ACA7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60C-F3A7-4F33-9D1B-CCF61812F3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697F-D61C-417B-894D-8895AF2992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101-37E5-4C42-A54E-06B7C0256D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6EB-4CFE-4CE5-ACE0-330EF2B81C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32E2C-E0C1-425E-B5D0-D275F3278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8EC-B177-431B-9882-1516635A3F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E70-1484-42D5-9C0D-DA42E944DE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87A-0694-4D19-938B-893223D494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C8C-8DB5-4375-AF7C-DA126D41C4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067-FA00-4F26-8F16-C6DCFE53BC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12732-7815-4A8C-8886-4BE11D46D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47711-F91D-4796-B493-C76F58759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AAEBC-C1B0-4095-AC75-D6731627C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4004-D19D-4576-AED1-F3E582474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1E25-C143-4A53-A898-16C8733EE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CB9C-40A9-4DB7-8AF1-56AD442828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40FB-CB90-499E-A06E-8EF5557388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CC25-D7B9-43F9-BDE0-30FA42D96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5D05-1905-478F-B068-FCCBE1BF3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1216-E9FD-4E1B-9E79-C802C911D9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600" spc="-1" strike="noStrike">
                <a:solidFill>
                  <a:srgbClr val="ffffff"/>
                </a:solidFill>
                <a:latin typeface="Verdana"/>
              </a:rPr>
              <a:t>Évaluation : Audits</a:t>
            </a:r>
            <a:endParaRPr b="0" lang="en-US" sz="4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9EB6-BD21-4996-94A1-C3FB1A9A7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MCj04349290000[1]"/>
          <p:cNvPicPr/>
          <p:nvPr/>
        </p:nvPicPr>
        <p:blipFill>
          <a:blip r:embed="rId1"/>
          <a:stretch/>
        </p:blipFill>
        <p:spPr>
          <a:xfrm>
            <a:off x="205740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"/>
          <p:cNvPicPr/>
          <p:nvPr/>
        </p:nvPicPr>
        <p:blipFill>
          <a:blip r:embed="rId2"/>
          <a:srcRect l="0" t="15625" r="0" b="0"/>
          <a:stretch/>
        </p:blipFill>
        <p:spPr>
          <a:xfrm>
            <a:off x="5029200" y="4819680"/>
            <a:ext cx="3220920" cy="2038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ueillir l’information su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ocessus et les procédures opératoi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ersonnel, l’équipement, méthodes d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vironnement, la manipulation des échantill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contrôle de qualité et la vérification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ratiques d’enregistrement et de rappo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C8A2-9AF7-478C-B15B-8BC9B13C3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arer les résultants aux documents du système de gestion de la qualité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toute rupture ou déviation par rapport aux procédu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quelque chose des résultats d’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7795-9DA4-41C3-A166-ED099771D6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8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178" name="Oval 5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Arial"/>
              </a:rPr>
              <a:t>Autorités de san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4724280" y="914400"/>
            <a:ext cx="441972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gence d’accrédi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562720" y="4343400"/>
            <a:ext cx="358128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ogramme de santé publ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Oval 8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Bailleurs</a:t>
            </a:r>
            <a:br>
              <a:rPr sz="3200"/>
            </a:br>
            <a:r>
              <a:rPr b="1" lang="fr-FR" sz="3200" spc="-1" strike="noStrike">
                <a:solidFill>
                  <a:srgbClr val="00007d"/>
                </a:solidFill>
                <a:latin typeface="Arial"/>
              </a:rPr>
              <a:t>de fon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eurs extern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19" descr="lab_design"/>
          <p:cNvPicPr/>
          <p:nvPr/>
        </p:nvPicPr>
        <p:blipFill>
          <a:blip r:embed="rId2"/>
          <a:stretch/>
        </p:blipFill>
        <p:spPr>
          <a:xfrm>
            <a:off x="3048120" y="1981080"/>
            <a:ext cx="2593800" cy="31244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0"/>
          <p:cNvSpPr/>
          <p:nvPr/>
        </p:nvSpPr>
        <p:spPr>
          <a:xfrm>
            <a:off x="3124080" y="3124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EBD9-989C-435E-A6A1-FDDA5AC5B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s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Group 8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189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3" name="Group 32"/>
          <p:cNvGrpSpPr/>
          <p:nvPr/>
        </p:nvGrpSpPr>
        <p:grpSpPr>
          <a:xfrm>
            <a:off x="533520" y="3581280"/>
            <a:ext cx="5234040" cy="2933640"/>
            <a:chOff x="533520" y="3581280"/>
            <a:chExt cx="5234040" cy="2933640"/>
          </a:xfrm>
        </p:grpSpPr>
        <p:pic>
          <p:nvPicPr>
            <p:cNvPr id="194" name="Picture 5" descr="j0213395"/>
            <p:cNvPicPr/>
            <p:nvPr/>
          </p:nvPicPr>
          <p:blipFill>
            <a:blip r:embed="rId1"/>
            <a:stretch/>
          </p:blipFill>
          <p:spPr>
            <a:xfrm>
              <a:off x="4114800" y="442332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3" descr="j0433934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Text Box 16"/>
            <p:cNvSpPr/>
            <p:nvPr/>
          </p:nvSpPr>
          <p:spPr>
            <a:xfrm>
              <a:off x="1905120" y="4227120"/>
              <a:ext cx="2377800" cy="22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Avertir personnel, aménager emploi du temps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7" name="Rectangle 17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éparation d’un audit externe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4648320"/>
            <a:ext cx="350532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assembler les informations et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9" name="Group 31"/>
          <p:cNvGrpSpPr/>
          <p:nvPr/>
        </p:nvGrpSpPr>
        <p:grpSpPr>
          <a:xfrm>
            <a:off x="380880" y="1447920"/>
            <a:ext cx="3885480" cy="2361600"/>
            <a:chOff x="380880" y="1447920"/>
            <a:chExt cx="3885480" cy="2361600"/>
          </a:xfrm>
        </p:grpSpPr>
        <p:pic>
          <p:nvPicPr>
            <p:cNvPr id="200" name="Picture 27" descr="MCj03636380000[1]"/>
            <p:cNvPicPr/>
            <p:nvPr/>
          </p:nvPicPr>
          <p:blipFill>
            <a:blip r:embed="rId3"/>
            <a:stretch/>
          </p:blipFill>
          <p:spPr>
            <a:xfrm>
              <a:off x="380880" y="1447920"/>
              <a:ext cx="3650400" cy="236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29"/>
            <p:cNvSpPr/>
            <p:nvPr/>
          </p:nvSpPr>
          <p:spPr>
            <a:xfrm>
              <a:off x="1087200" y="2149920"/>
              <a:ext cx="317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ifier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4683-5F9A-4026-B920-71F3443D2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AutoShape 21"/>
          <p:cNvSpPr/>
          <p:nvPr/>
        </p:nvSpPr>
        <p:spPr>
          <a:xfrm rot="10800000">
            <a:off x="2438280" y="5409720"/>
            <a:ext cx="6400800" cy="8384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apport d’audit externe et plan d’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Identifiez manquements/non conformité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nregistrez les résultats et actions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digez un ra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Planifiez des 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Développez un calendr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ttribuez les responsabilité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4495680" y="1066680"/>
            <a:ext cx="44197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Laboratoire revoit/ comprend les recommand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2914560" y="1219320"/>
            <a:ext cx="1524240" cy="76176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22"/>
          <p:cNvSpPr/>
          <p:nvPr/>
        </p:nvSpPr>
        <p:spPr>
          <a:xfrm rot="5400000">
            <a:off x="6705000" y="3276360"/>
            <a:ext cx="3657600" cy="7621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26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27"/>
          <p:cNvSpPr/>
          <p:nvPr/>
        </p:nvSpPr>
        <p:spPr>
          <a:xfrm>
            <a:off x="609480" y="1447920"/>
            <a:ext cx="2133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apport et résumé des auditeurs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2D6D-94D2-4EE3-83E6-7016E714B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86" descr="MCj04099450000[1]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3" descr="spy_guy_bck_col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553080" y="914400"/>
            <a:ext cx="2057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Picture 9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10"/>
          <p:cNvSpPr/>
          <p:nvPr/>
        </p:nvSpPr>
        <p:spPr>
          <a:xfrm>
            <a:off x="6400800" y="3505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Moins coûteux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78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77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quis par standards I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régulièr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ené quand problèmes identifi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84"/>
          <p:cNvSpPr/>
          <p:nvPr/>
        </p:nvSpPr>
        <p:spPr>
          <a:xfrm>
            <a:off x="2895480" y="1293840"/>
            <a:ext cx="266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garder ses propres process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Picture 87" descr="bulles_CDC"/>
          <p:cNvPicPr/>
          <p:nvPr/>
        </p:nvPicPr>
        <p:blipFill>
          <a:blip r:embed="rId4"/>
          <a:stretch/>
        </p:blipFill>
        <p:spPr>
          <a:xfrm>
            <a:off x="228600" y="3670200"/>
            <a:ext cx="266688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007A-C758-43EF-B376-35BBBDBD6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Valeur des audits intern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préparer pour un audit exter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nsibiliser 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’amélio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ctions préventives et correctiv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portunité de form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ondre aux standards d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508E-3AA5-4A7E-B9BC-7B3AFC2168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s Internes : Exigences IS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23"/>
          <p:cNvSpPr/>
          <p:nvPr/>
        </p:nvSpPr>
        <p:spPr>
          <a:xfrm>
            <a:off x="0" y="1752480"/>
            <a:ext cx="91440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gramme d’audit ex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océdures document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uditeurs indépendants de l’activ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ésultats rendus sous forme de rapport et revus par la direction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ction de suivi rap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CC88-57F1-4FF9-8846-08B499B6FF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i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Arc 5"/>
          <p:cNvSpPr/>
          <p:nvPr/>
        </p:nvSpPr>
        <p:spPr>
          <a:xfrm>
            <a:off x="7238880" y="22860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Arc 6"/>
          <p:cNvSpPr/>
          <p:nvPr/>
        </p:nvSpPr>
        <p:spPr>
          <a:xfrm rot="5400000">
            <a:off x="5295960" y="2857680"/>
            <a:ext cx="129528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AutoShape 7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AutoShape 8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9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udit In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5257800" y="16002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ériolog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3581280" y="7621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é a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dits intern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0" y="1981080"/>
            <a:ext cx="4038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Ne pas auditer votre propre travai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Rectangle 14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utr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39DB-4F00-45AC-A557-B33A5F02F1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12"/>
          <p:cNvGrpSpPr/>
          <p:nvPr/>
        </p:nvGrpSpPr>
        <p:grpSpPr>
          <a:xfrm>
            <a:off x="152280" y="533520"/>
            <a:ext cx="8991000" cy="5790600"/>
            <a:chOff x="152280" y="533520"/>
            <a:chExt cx="8991000" cy="5790600"/>
          </a:xfrm>
        </p:grpSpPr>
        <p:sp>
          <p:nvSpPr>
            <p:cNvPr id="252" name="AutoShape 11"/>
            <p:cNvSpPr/>
            <p:nvPr/>
          </p:nvSpPr>
          <p:spPr>
            <a:xfrm>
              <a:off x="152280" y="533520"/>
              <a:ext cx="8991000" cy="57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réparer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listes de contrôle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500" spc="-1" strike="noStrike">
                  <a:solidFill>
                    <a:srgbClr val="000000"/>
                  </a:solidFill>
                  <a:latin typeface="Verdana"/>
                </a:rPr>
                <a:t>formulaires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6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Planifier  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br>
                <a:rPr sz="2500"/>
              </a:b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réguliers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7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Programme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d’audit</a:t>
              </a:r>
              <a:br>
                <a:rPr sz="2500"/>
              </a:br>
              <a:r>
                <a:rPr b="1" lang="fr-FR" sz="2500" spc="-1" strike="noStrike">
                  <a:solidFill>
                    <a:srgbClr val="00007d"/>
                  </a:solidFill>
                  <a:latin typeface="Verdana"/>
                </a:rPr>
                <a:t> interne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500" spc="-1" strike="noStrike">
                  <a:solidFill>
                    <a:srgbClr val="000000"/>
                  </a:solidFill>
                  <a:latin typeface="Verdana"/>
                </a:rPr>
                <a:t>Attribuer </a:t>
              </a:r>
              <a:br>
                <a:rPr sz="25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responsabilité</a:t>
              </a: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0" name="Text Box 3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7" descr="j0432664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bs00272_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MCj04349290000[1]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head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61667-200F-4AFF-B5A8-93DE01F601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processus préparant le personnel à un audit ex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nifier et gérer un audit inter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comment utiliser les résultats d’un aud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laidoyer à propos de l’importance des mesures correctives à prend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1FD1-D761-4E95-BA5E-B10AE452EE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AutoShape 24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AutoShape 13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828800" y="7621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Directeur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AutoShape 6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1066680" y="2362320"/>
            <a:ext cx="3048120" cy="1557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Détermine la ligne de conduit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568440" y="4843440"/>
            <a:ext cx="4038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Assigne responsabilités</a:t>
            </a: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fr-FR" sz="1800" spc="-1" strike="noStrike">
                <a:solidFill>
                  <a:srgbClr val="ffff00"/>
                </a:solidFill>
                <a:latin typeface="Verdana"/>
              </a:rPr>
              <a:t>pour le programme d’audit interne – </a:t>
            </a:r>
            <a:r>
              <a:rPr b="0" lang="fr-FR" sz="1800" spc="-1" strike="noStrike">
                <a:solidFill>
                  <a:srgbClr val="ff6600"/>
                </a:solidFill>
                <a:latin typeface="Verdana"/>
              </a:rPr>
              <a:t>responsable qualit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00800" y="2514600"/>
            <a:ext cx="2057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Verdana"/>
              </a:rPr>
              <a:t>soutient les mesures d’actions correc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20"/>
          <p:cNvSpPr/>
          <p:nvPr/>
        </p:nvSpPr>
        <p:spPr>
          <a:xfrm rot="5400000">
            <a:off x="1943280" y="1333440"/>
            <a:ext cx="761760" cy="9907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AutoShape 21"/>
          <p:cNvSpPr/>
          <p:nvPr/>
        </p:nvSpPr>
        <p:spPr>
          <a:xfrm rot="5400000">
            <a:off x="1942560" y="3543120"/>
            <a:ext cx="914400" cy="114300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2"/>
          <p:cNvSpPr/>
          <p:nvPr/>
        </p:nvSpPr>
        <p:spPr>
          <a:xfrm rot="5400000">
            <a:off x="6819840" y="1485720"/>
            <a:ext cx="990720" cy="106704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AutoShape 23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26"/>
          <p:cNvSpPr/>
          <p:nvPr/>
        </p:nvSpPr>
        <p:spPr>
          <a:xfrm>
            <a:off x="1905120" y="5715000"/>
            <a:ext cx="761760" cy="533520"/>
          </a:xfrm>
          <a:prstGeom prst="pie">
            <a:avLst/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E206-40EC-4454-89F7-371DCEE83F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31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152280" y="457200"/>
            <a:ext cx="8686800" cy="16250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Responsabilité du Responsab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Créer et maintenir un système d’audit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0400" y="2652840"/>
            <a:ext cx="266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oordonne le processus d’audit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Gérer</a:t>
            </a:r>
            <a:br>
              <a:rPr sz="2000"/>
            </a:br>
            <a:r>
              <a:rPr b="1" lang="fr-FR" sz="2000" spc="-1" strike="noStrike">
                <a:solidFill>
                  <a:srgbClr val="00007d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17"/>
          <p:cNvSpPr/>
          <p:nvPr/>
        </p:nvSpPr>
        <p:spPr>
          <a:xfrm rot="5400000">
            <a:off x="4076640" y="1942920"/>
            <a:ext cx="609480" cy="8380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18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57200" y="23623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Établir un calendri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’audit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inter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Oval 24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Oval 25"/>
          <p:cNvSpPr/>
          <p:nvPr/>
        </p:nvSpPr>
        <p:spPr>
          <a:xfrm>
            <a:off x="304920" y="4876920"/>
            <a:ext cx="2057400" cy="13716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333360" y="503244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e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14"/>
          <p:cNvSpPr/>
          <p:nvPr/>
        </p:nvSpPr>
        <p:spPr>
          <a:xfrm rot="11374200">
            <a:off x="2133000" y="256788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23"/>
          <p:cNvSpPr/>
          <p:nvPr/>
        </p:nvSpPr>
        <p:spPr>
          <a:xfrm>
            <a:off x="5181480" y="5410080"/>
            <a:ext cx="144792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AutoShape 22"/>
          <p:cNvSpPr/>
          <p:nvPr/>
        </p:nvSpPr>
        <p:spPr>
          <a:xfrm rot="10800000">
            <a:off x="2209680" y="5333760"/>
            <a:ext cx="1371600" cy="53316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28"/>
          <p:cNvSpPr/>
          <p:nvPr/>
        </p:nvSpPr>
        <p:spPr>
          <a:xfrm>
            <a:off x="380880" y="3276720"/>
            <a:ext cx="1905120" cy="12189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Text Box 29"/>
          <p:cNvSpPr/>
          <p:nvPr/>
        </p:nvSpPr>
        <p:spPr>
          <a:xfrm>
            <a:off x="457200" y="3276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7d"/>
                </a:solidFill>
                <a:latin typeface="Verdana"/>
              </a:rPr>
              <a:t>Sélectionner et former des auditeu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AutoShape 30"/>
          <p:cNvSpPr/>
          <p:nvPr/>
        </p:nvSpPr>
        <p:spPr>
          <a:xfrm rot="9818400">
            <a:off x="2133000" y="3276360"/>
            <a:ext cx="1066680" cy="5554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AutoShape 15"/>
          <p:cNvSpPr/>
          <p:nvPr/>
        </p:nvSpPr>
        <p:spPr>
          <a:xfrm rot="19251600">
            <a:off x="5257440" y="3733920"/>
            <a:ext cx="1828800" cy="45720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6553080" y="527688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Rapport pour la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4561-1EED-4E0E-BC77-A89419295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ner un audit intern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diger des listes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’ouver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cueillir et analyser les inform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union de clô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60520" indent="-56052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4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3F0B-FBBE-42EB-9759-5769B6E08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Picture 109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124080" y="3809880"/>
            <a:ext cx="2438640" cy="2340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6"/>
          <p:cNvGrpSpPr/>
          <p:nvPr/>
        </p:nvGrpSpPr>
        <p:grpSpPr>
          <a:xfrm>
            <a:off x="2639880" y="3657600"/>
            <a:ext cx="3228840" cy="2860560"/>
            <a:chOff x="2639880" y="3657600"/>
            <a:chExt cx="3228840" cy="2860560"/>
          </a:xfrm>
        </p:grpSpPr>
        <p:sp>
          <p:nvSpPr>
            <p:cNvPr id="313" name="AutoShape 95"/>
            <p:cNvSpPr/>
            <p:nvPr/>
          </p:nvSpPr>
          <p:spPr>
            <a:xfrm>
              <a:off x="2868480" y="3657600"/>
              <a:ext cx="2770200" cy="28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620643"/>
            <p:cNvSpPr/>
            <p:nvPr/>
          </p:nvSpPr>
          <p:spPr>
            <a:xfrm>
              <a:off x="3240720" y="3857400"/>
              <a:ext cx="2026440" cy="184032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_s620644"/>
            <p:cNvSpPr/>
            <p:nvPr/>
          </p:nvSpPr>
          <p:spPr>
            <a:xfrm rot="7200000">
              <a:off x="3610800" y="419868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6" name="_s620646"/>
            <p:cNvSpPr/>
            <p:nvPr/>
          </p:nvSpPr>
          <p:spPr>
            <a:xfrm rot="14400000">
              <a:off x="3057120" y="4201200"/>
              <a:ext cx="1840320" cy="2026440"/>
            </a:xfrm>
            <a:prstGeom prst="pie">
              <a:avLst/>
            </a:pr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7" name="_s620641"/>
            <p:cNvSpPr/>
            <p:nvPr/>
          </p:nvSpPr>
          <p:spPr>
            <a:xfrm>
              <a:off x="480888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8" name="_s620642"/>
            <p:cNvSpPr/>
            <p:nvPr/>
          </p:nvSpPr>
          <p:spPr>
            <a:xfrm>
              <a:off x="3847320" y="57067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620645"/>
            <p:cNvSpPr/>
            <p:nvPr/>
          </p:nvSpPr>
          <p:spPr>
            <a:xfrm>
              <a:off x="2885760" y="41943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réer un calendrier d’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ner des audits réguliè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dits plus fréquent en cas de problèmes ou de besoin d’amélio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audits devraient au cours du temps revoir tous les points essentiels du système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091-696B-4B4A-8441-6D1F8207AC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670536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ck-lists (listes de contrôle)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formulaires pour les actions correctives et les rap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6094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CORRECTIVE ACTION FORM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7070-176E-4A5F-9349-2E72344D1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28" descr="Untitled-7"/>
          <p:cNvPicPr/>
          <p:nvPr/>
        </p:nvPicPr>
        <p:blipFill>
          <a:blip r:embed="rId1"/>
          <a:stretch/>
        </p:blipFill>
        <p:spPr>
          <a:xfrm>
            <a:off x="685800" y="1143000"/>
            <a:ext cx="716292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E24B-E873-446E-B665-79D6CC1890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2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AutoShape 3"/>
          <p:cNvSpPr/>
          <p:nvPr/>
        </p:nvSpPr>
        <p:spPr>
          <a:xfrm rot="5400000">
            <a:off x="1294920" y="3047760"/>
            <a:ext cx="1295280" cy="129564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s audits doiven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D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AutoShape 8"/>
          <p:cNvSpPr/>
          <p:nvPr/>
        </p:nvSpPr>
        <p:spPr>
          <a:xfrm>
            <a:off x="5638680" y="13716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des a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AutoShape 7"/>
          <p:cNvSpPr/>
          <p:nvPr/>
        </p:nvSpPr>
        <p:spPr>
          <a:xfrm rot="20101800">
            <a:off x="3123720" y="3885840"/>
            <a:ext cx="3619800" cy="1295280"/>
          </a:xfrm>
          <a:prstGeom prst="pi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EB06-DCAF-4664-BEC9-E8184C7BB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Picture 5" descr="j0435880"/>
          <p:cNvPicPr/>
          <p:nvPr/>
        </p:nvPicPr>
        <p:blipFill>
          <a:blip r:embed="rId1"/>
          <a:stretch/>
        </p:blipFill>
        <p:spPr>
          <a:xfrm>
            <a:off x="5486400" y="3166920"/>
            <a:ext cx="2819520" cy="25146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correctives et de rattrapag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es actions sont prises pour améliorer un processus ou corriger un problèm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3809880"/>
            <a:ext cx="5562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i est responsable?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008000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5871-A326-413A-B574-8AF12FBBD1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ntreprendre des actions correctiv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er une équipe de résolution de problèm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ercher les causes premiè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commander l’action corrective approprié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ttre en oeuvre l’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bserver l’efficacité de l’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s actions et leurs résult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A888-8DD2-4F76-800A-E3F40309E4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Formulaire d’opportunité d’amélio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52" name="Picture 6" descr="CORRECTIVE ACTION FORM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53" name="ZoneTexte 5"/>
          <p:cNvSpPr/>
          <p:nvPr/>
        </p:nvSpPr>
        <p:spPr>
          <a:xfrm>
            <a:off x="3200400" y="1447920"/>
            <a:ext cx="2971800" cy="27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Formulaire d’action correcti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ZoneTexte 6"/>
          <p:cNvSpPr/>
          <p:nvPr/>
        </p:nvSpPr>
        <p:spPr>
          <a:xfrm>
            <a:off x="2362320" y="1963800"/>
            <a:ext cx="32004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Cette action corrective est le résultat de: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ZoneTexte 7"/>
          <p:cNvSpPr/>
          <p:nvPr/>
        </p:nvSpPr>
        <p:spPr>
          <a:xfrm>
            <a:off x="2819520" y="251460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in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oneTexte 8"/>
          <p:cNvSpPr/>
          <p:nvPr/>
        </p:nvSpPr>
        <p:spPr>
          <a:xfrm>
            <a:off x="2819520" y="28018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Audit extern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ZoneTexte 9"/>
          <p:cNvSpPr/>
          <p:nvPr/>
        </p:nvSpPr>
        <p:spPr>
          <a:xfrm>
            <a:off x="5486400" y="220968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5486400" y="251460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ZoneTexte 11"/>
          <p:cNvSpPr/>
          <p:nvPr/>
        </p:nvSpPr>
        <p:spPr>
          <a:xfrm>
            <a:off x="5486400" y="2819520"/>
            <a:ext cx="60948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Heure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ZoneTexte 12"/>
          <p:cNvSpPr/>
          <p:nvPr/>
        </p:nvSpPr>
        <p:spPr>
          <a:xfrm>
            <a:off x="2362320" y="327672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Description du Problème ou du constat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il arrivé et Pourquoi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ZoneTexte 13"/>
          <p:cNvSpPr/>
          <p:nvPr/>
        </p:nvSpPr>
        <p:spPr>
          <a:xfrm>
            <a:off x="2362320" y="4781520"/>
            <a:ext cx="18288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apporté par: (Nom du personnel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ZoneTexte 14"/>
          <p:cNvSpPr/>
          <p:nvPr/>
        </p:nvSpPr>
        <p:spPr>
          <a:xfrm>
            <a:off x="2362320" y="5410080"/>
            <a:ext cx="4572000" cy="36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Action Corrective prise: </a:t>
            </a:r>
            <a:r>
              <a:rPr b="0" lang="fr-FR" sz="800" spc="-1" strike="noStrike">
                <a:solidFill>
                  <a:srgbClr val="000000"/>
                </a:solidFill>
                <a:latin typeface="Verdana"/>
              </a:rPr>
              <a:t>(Qu’est ce qui a été fait pour prévenir la réapparition du problème))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ZoneTexte 15"/>
          <p:cNvSpPr/>
          <p:nvPr/>
        </p:nvSpPr>
        <p:spPr>
          <a:xfrm>
            <a:off x="2819520" y="2209680"/>
            <a:ext cx="1447560" cy="231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Constat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53419-FD47-41D9-910D-0AB1F7483E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« Vous êtes le responsable qualité dans votre laboratoire et vous voulez organiser un audit interne. »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Quelles étapes allez vous suivre?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B96E-C58E-4468-ACCB-6D16B0BD3A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10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Le contrôle continu est l’élément clef du succès du système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5BFB-B0EB-476B-8466-43E2EEC6B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Picture 92" descr="Untitled-9"/>
          <p:cNvPicPr/>
          <p:nvPr/>
        </p:nvPicPr>
        <p:blipFill>
          <a:blip r:embed="rId1"/>
          <a:stretch/>
        </p:blipFill>
        <p:spPr>
          <a:xfrm>
            <a:off x="304920" y="603360"/>
            <a:ext cx="83818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ce réservé du pied de page 1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3F3F-C20C-4048-A2FB-FF7DC1AF5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685800" y="1371600"/>
            <a:ext cx="7696080" cy="4725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e n’est pas ce que vous trouvez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Verdana"/>
                <a:ea typeface="Arial"/>
              </a:rPr>
              <a:t>C’est ce que vous faîtes de ce que vous trouvez.”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4DEE-305F-46A9-9162-6B5FFC603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évaluation est importante dans le contrôle de l’efficacité du système qualité du laboratoir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audits externes et internes fournissent des informations util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résultats de l’évaluation est de trouver les causes du problème et de prendre des mesures corrective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21CB-176D-45DC-BDAD-3DB5D3E8A8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ous les laboratoires devraient établir un programme d’audit interne. Conduit régulièrement, il fournira des informations favorisant les améliorations continu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 deviennent alors des opportunités d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FA5E-105B-48A0-B612-E817AED6B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14640" y="29714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8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2952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2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78F1-EF58-4285-A0FE-CC08D94B43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8" name="Picture 27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9528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A27-2438-411A-9FAD-B7BF604D75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— 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8076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nalyse systématique de certaines (ou de toutes) parties du système de gestion de la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ormité aux exig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9" descr="spy_guy"/>
          <p:cNvPicPr/>
          <p:nvPr/>
        </p:nvPicPr>
        <p:blipFill>
          <a:blip r:embed="rId1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Laurence\AppData\Local\Temp\Rar$DI00.100\bulles_def.gif"/>
          <p:cNvPicPr/>
          <p:nvPr/>
        </p:nvPicPr>
        <p:blipFill>
          <a:blip r:embed="rId2"/>
          <a:stretch/>
        </p:blipFill>
        <p:spPr>
          <a:xfrm>
            <a:off x="4495680" y="3884760"/>
            <a:ext cx="198144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2CFE-7B9B-4CEA-8A3B-CF5A781420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ubOvalCallout"/>
          <p:cNvSpPr/>
          <p:nvPr/>
        </p:nvSpPr>
        <p:spPr>
          <a:xfrm>
            <a:off x="228600" y="1143000"/>
            <a:ext cx="7086600" cy="541008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-ce qu’une évaluation 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Une personne dema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5" descr="j0234625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219320" y="2209680"/>
            <a:ext cx="518148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Qu’est ce qui est fait 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Cela est il conforme aux lignes de conduite et aux procéd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7340-DC9A-4041-98A4-810D392B8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urquoi faire une évaluation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pprendre “ où nous en sommes ” en terme de gestion de la qualit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 les écar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Besoin d’information pour 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ifier, mettre en oeuv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mélioration contin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MCBD19903_0000[1]"/>
          <p:cNvPicPr/>
          <p:nvPr/>
        </p:nvPicPr>
        <p:blipFill>
          <a:blip r:embed="rId1"/>
          <a:stretch/>
        </p:blipFill>
        <p:spPr>
          <a:xfrm>
            <a:off x="6934320" y="2362320"/>
            <a:ext cx="19047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6DE-F952-4EB7-9274-242DBDA1DA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4" descr="lab_design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5791320" y="2438280"/>
            <a:ext cx="335268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5943600" y="2971800"/>
            <a:ext cx="297180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roupe ou agences extérie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udit</a:t>
            </a:r>
            <a:br>
              <a:rPr sz="3600"/>
            </a:b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udit extern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Line 17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Line 18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Line 19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21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a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27"/>
          <p:cNvSpPr/>
          <p:nvPr/>
        </p:nvSpPr>
        <p:spPr>
          <a:xfrm rot="5400000">
            <a:off x="1523880" y="327636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AutoShape 28"/>
          <p:cNvSpPr/>
          <p:nvPr/>
        </p:nvSpPr>
        <p:spPr>
          <a:xfrm rot="13572000">
            <a:off x="3352680" y="4876200"/>
            <a:ext cx="1143000" cy="533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pied de page 3"/>
          <p:cNvSpPr/>
          <p:nvPr/>
        </p:nvSpPr>
        <p:spPr>
          <a:xfrm>
            <a:off x="45720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: Audits - Module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E9D6-3943-4F2C-99DA-3F945BADB3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heminement du spécim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7" descr=""/>
          <p:cNvPicPr/>
          <p:nvPr/>
        </p:nvPicPr>
        <p:blipFill>
          <a:blip r:embed="rId1"/>
          <a:srcRect l="0" t="12742" r="0" b="0"/>
          <a:stretch/>
        </p:blipFill>
        <p:spPr>
          <a:xfrm>
            <a:off x="304920" y="1338120"/>
            <a:ext cx="830556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1:22:00Z</dcterms:created>
  <dc:creator>sam5</dc:creator>
  <dc:description/>
  <dc:language>en-US</dc:language>
  <cp:lastModifiedBy>dolmazonv</cp:lastModifiedBy>
  <dcterms:modified xsi:type="dcterms:W3CDTF">2010-04-07T17:06:09Z</dcterms:modified>
  <cp:revision>152</cp:revision>
  <dc:subject/>
  <dc:title>Slide 1</dc:title>
</cp:coreProperties>
</file>